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14039"/>
        <c:axId val="34847570"/>
      </c:barChart>
      <c:catAx>
        <c:axId val="49414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47570"/>
        <c:crosses val="autoZero"/>
        <c:auto val="1"/>
        <c:lblAlgn val="ctr"/>
        <c:lblOffset val="100"/>
        <c:noMultiLvlLbl val="0"/>
      </c:catAx>
      <c:valAx>
        <c:axId val="34847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14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96D-5C2E-4672-BE34-069097B9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F8C-E31E-430C-8447-F9FAA52D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7BE-55B4-4766-A427-CD315FAA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697-BA6E-48E1-969C-8914A686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581-CF3E-4A71-9A0E-1F7C924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EF0-C739-4DD1-9CF2-5323E782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806-CF7C-4012-80C8-89CCC851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876-BA9A-48D3-8671-FC3B4BFE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DAF-C53C-4D18-B6FA-4D2DA54F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B28-616D-4BA8-A008-6119E94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5E1-5960-4B3B-B4F4-04CDAA55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515-3401-4060-8940-6E094B96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11717-67A0-4A9E-8196-254C10995D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