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521231"/>
        <c:axId val="73839340"/>
      </c:barChart>
      <c:catAx>
        <c:axId val="215212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39340"/>
        <c:crosses val="autoZero"/>
        <c:auto val="1"/>
        <c:lblAlgn val="ctr"/>
        <c:lblOffset val="100"/>
        <c:noMultiLvlLbl val="0"/>
      </c:catAx>
      <c:valAx>
        <c:axId val="738393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5212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7224-B3F2-4FCD-B172-88BE4A09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37E6-18CF-4FEB-B7FF-7FFD93463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45D-4AA7-47BD-A29D-F2464BBB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A5C5-87CF-4853-B742-821D4F51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D390-E181-4CBA-A1D5-2F8C4217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B4F9-5E46-42D3-A167-74E2F918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4B67-35AC-42B5-AB0E-3CAB02D4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7C3B-9640-44D4-B3E9-70D2BA2C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10DC-407A-422A-B226-D189F763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D95D-B4C7-43A9-BD34-72E02A6D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5C43-DD89-4BD0-8A19-6D378A33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F765-AD56-4C2B-BB33-A568BE6D8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CE2C8-5D33-49ED-9F25-50094F2AB5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