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69443"/>
        <c:axId val="3019418"/>
      </c:barChart>
      <c:catAx>
        <c:axId val="6569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19418"/>
        <c:crosses val="autoZero"/>
        <c:auto val="1"/>
        <c:lblAlgn val="ctr"/>
        <c:lblOffset val="100"/>
        <c:noMultiLvlLbl val="0"/>
      </c:catAx>
      <c:valAx>
        <c:axId val="3019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9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605A-E339-4217-916C-792C0D85D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99E9-5DCA-467A-9B23-CAD1304A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92F1-A397-418E-A45F-5C22965A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5727-6317-440F-8737-3A9AC5079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36AA-8B42-4892-9C06-2D50D9FE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382F-2C6E-43FE-B3E3-14EF62E2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6305-9072-4E87-A2E2-2A49FA54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79EE-4CEA-44F3-9FE6-F5AFB421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4A8-6FEA-46E1-B1E2-2CE24B84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BEC-6DE1-420A-9C51-B26CDC5E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AFD-AB3E-45BE-9B61-63255EDF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295C-40D4-4977-BB53-D6D8240A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0B65F-B32F-43C1-AC81-037EB0EC01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