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3125"/>
        <c:axId val="59612566"/>
      </c:barChart>
      <c:catAx>
        <c:axId val="5573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12566"/>
        <c:crosses val="autoZero"/>
        <c:auto val="1"/>
        <c:lblAlgn val="ctr"/>
        <c:lblOffset val="100"/>
        <c:noMultiLvlLbl val="0"/>
      </c:catAx>
      <c:valAx>
        <c:axId val="59612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3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B3F-8204-4252-A7B9-AEEA3D3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735-FDD2-4A9E-9C35-303FFFC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355-9568-4165-BE91-D019FCE9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FA8-EB7A-46C5-B926-079FFC39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732-D470-4BE6-947A-A4A8A6D0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F95-BCDC-4A07-91B6-0D64420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49F-ECE5-4A1E-A8F8-1BE0FB1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719-958D-44A5-A22E-554F156B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9D2-0EC7-4921-A504-0DE8E853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641-E3BA-45A1-B561-B04ED3B8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50C-CF68-451F-90FD-F7D0D2E2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6E7-8A38-4C61-A6F5-89EDA99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4DE2B-FEBF-4412-B96A-3F502EE3A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