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90802"/>
        <c:axId val="32690173"/>
      </c:barChart>
      <c:catAx>
        <c:axId val="85190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90173"/>
        <c:crosses val="autoZero"/>
        <c:auto val="1"/>
        <c:lblAlgn val="ctr"/>
        <c:lblOffset val="100"/>
        <c:noMultiLvlLbl val="0"/>
      </c:catAx>
      <c:valAx>
        <c:axId val="32690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0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11D-F0D5-4F5A-95D2-3AAE1AD1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C9B-E6B1-4D75-BE54-41F89EFD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BD8-2394-497F-817A-7F6094E4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B07-7803-4A60-9330-89D207A2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495-0FCE-491E-A7DD-8800C302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90B-A96D-4D69-9736-62B6912D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4B2-6643-4F53-AB58-0DB2F924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480-4651-4BA7-B271-D0F4FC33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97B-394C-4E1F-A9EB-C456B36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FB3-A8E0-4956-9721-729F9CF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0BB-A4F5-484E-B34E-5A5F3C6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410-57CC-4449-A67C-BE64928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3F93D-7807-46C3-A32B-92BEB4AE43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