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75907"/>
        <c:axId val="94166246"/>
      </c:barChart>
      <c:catAx>
        <c:axId val="92675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66246"/>
        <c:crosses val="autoZero"/>
        <c:auto val="1"/>
        <c:lblAlgn val="ctr"/>
        <c:lblOffset val="100"/>
        <c:noMultiLvlLbl val="0"/>
      </c:catAx>
      <c:valAx>
        <c:axId val="94166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75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7D2-50DF-4503-A64B-64944ADD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F1D-A922-4B0B-B9F4-9914DBC5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EFF-C887-43B9-8862-84B36E27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7EC-B936-4C9A-A031-9E8D4FCA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F6A-5818-4C29-867E-6D043D07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3A4-7231-4F11-8B30-9ECE83EB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668-9685-4AEF-8B82-6613265A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7D8-5A94-4C3A-AB41-D5E8BBA8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F67-6A49-4F1C-82F2-3DCB5CC7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F60-C0D9-4C47-A78E-E9CF2509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7E9-9C4F-44C5-AA7D-F01FD76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3D8-B33E-4AE6-84E5-B712456B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3DC19-80AE-40AC-A0D1-3F4CBEBB98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